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19.jpeg" ContentType="image/jpeg"/>
  <Override PartName="/ppt/media/image6.png" ContentType="image/png"/>
  <Override PartName="/ppt/media/image26.gif" ContentType="image/gif"/>
  <Override PartName="/ppt/media/image4.png" ContentType="image/png"/>
  <Override PartName="/ppt/media/image24.gif" ContentType="image/gif"/>
  <Override PartName="/ppt/media/image22.png" ContentType="image/png"/>
  <Override PartName="/ppt/media/image5.png" ContentType="image/png"/>
  <Override PartName="/ppt/media/image10.png" ContentType="image/png"/>
  <Override PartName="/ppt/media/image20.png" ContentType="image/png"/>
  <Override PartName="/ppt/media/image23.png" ContentType="image/png"/>
  <Override PartName="/ppt/media/image18.gif" ContentType="image/gif"/>
  <Override PartName="/ppt/media/image21.png" ContentType="image/png"/>
  <Override PartName="/ppt/media/image16.gif" ContentType="image/gif"/>
  <Override PartName="/ppt/media/image14.gif" ContentType="image/gif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E862-9612-421A-834A-D340B26EF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6938-B16D-4406-B258-D0EB8797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FDE8-3FBC-454E-BACD-64442B2DD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3CB4-17AF-41DD-9AEB-DD82343C9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8FAA-E577-4AD7-A651-4935328A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26CF-59A2-4A2A-A4EB-289C26A6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CE2D-9639-4F0B-B0C6-1C0A202E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6AFC-76A0-4E90-AF47-3A09AA6A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E43F-FDE2-48D5-B10B-CDADDA19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B073-A83D-4338-ADFC-3B87B306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5CEB-0518-4C21-B284-80C69DEC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D429-6AC2-4B32-91F2-C004CD0D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C4AC-BBFC-4460-BCC1-CCA51BF81B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gi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3880" y="1371600"/>
            <a:ext cx="61722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玩一玩画图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133720" y="30492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怎样退出“画图”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10224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371600" y="914400"/>
            <a:ext cx="6324480" cy="534672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7315200" y="838080"/>
            <a:ext cx="1523880" cy="459720"/>
            <a:chOff x="7315200" y="838080"/>
            <a:chExt cx="1523880" cy="459720"/>
          </a:xfrm>
        </p:grpSpPr>
        <p:sp>
          <p:nvSpPr>
            <p:cNvPr id="163" name=""/>
            <p:cNvSpPr/>
            <p:nvPr/>
          </p:nvSpPr>
          <p:spPr>
            <a:xfrm>
              <a:off x="7315200" y="838080"/>
              <a:ext cx="380880" cy="4572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72400" y="8380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方法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295280" y="1066680"/>
            <a:ext cx="838440" cy="5335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52480" y="1600200"/>
            <a:ext cx="838440" cy="36576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5181480"/>
            <a:ext cx="3124080" cy="4572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066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方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11034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209680" y="2109960"/>
            <a:ext cx="4552920" cy="20048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066680" y="838080"/>
            <a:ext cx="65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    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退出“画图”时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,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出现下面的提示怎么办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57200" y="3809880"/>
            <a:ext cx="2819520" cy="2082960"/>
            <a:chOff x="457200" y="3809880"/>
            <a:chExt cx="2819520" cy="2082960"/>
          </a:xfrm>
        </p:grpSpPr>
        <p:sp>
          <p:nvSpPr>
            <p:cNvPr id="173" name=""/>
            <p:cNvSpPr/>
            <p:nvPr/>
          </p:nvSpPr>
          <p:spPr>
            <a:xfrm>
              <a:off x="457200" y="4876920"/>
              <a:ext cx="28195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保存文件并退出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要求输入文件名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1828800" y="3809880"/>
              <a:ext cx="914400" cy="990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4495320" y="3809520"/>
            <a:ext cx="3734280" cy="1527120"/>
            <a:chOff x="4495320" y="3809520"/>
            <a:chExt cx="3734280" cy="1527120"/>
          </a:xfrm>
        </p:grpSpPr>
        <p:sp>
          <p:nvSpPr>
            <p:cNvPr id="176" name=""/>
            <p:cNvSpPr/>
            <p:nvPr/>
          </p:nvSpPr>
          <p:spPr>
            <a:xfrm>
              <a:off x="5410080" y="487692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不保存文件退出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4495320" y="3809520"/>
              <a:ext cx="1752840" cy="11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62320" cy="11872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438280" y="380880"/>
            <a:ext cx="18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幼圆"/>
              </a:rPr>
              <a:t>填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657600" y="1219320"/>
            <a:ext cx="1276200" cy="48006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133720" y="13716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1295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幼圆"/>
              </a:rPr>
              <a:t>任意裁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2880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幼圆"/>
              </a:rPr>
              <a:t>橡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幼圆"/>
              </a:rPr>
              <a:t>取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幼圆"/>
              </a:rPr>
              <a:t>铅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2880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幼圆"/>
              </a:rPr>
              <a:t>喷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幼圆"/>
              </a:rPr>
              <a:t>直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28800" y="4876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幼圆"/>
              </a:rPr>
              <a:t>矩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28800" y="5486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幼圆"/>
              </a:rPr>
              <a:t>椭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86400" y="13716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81480" y="1295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幼圆"/>
              </a:rPr>
              <a:t>选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814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幼圆"/>
              </a:rPr>
              <a:t>颜色填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814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幼圆"/>
              </a:rPr>
              <a:t>放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814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幼圆"/>
              </a:rPr>
              <a:t>刷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814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幼圆"/>
              </a:rPr>
              <a:t>文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814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幼圆"/>
              </a:rPr>
              <a:t>曲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81480" y="4876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幼圆"/>
              </a:rPr>
              <a:t>多边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076720" y="5516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幼圆"/>
              </a:rPr>
              <a:t>圆角矩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47640" y="134136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63640" y="1916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438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00200" y="2971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00200" y="36576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4343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4876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0020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43280" y="13413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4280" y="1905120"/>
            <a:ext cx="25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24280" y="2438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24280" y="2971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24280" y="36576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4343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4280" y="4876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16360" y="551664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75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8" dur="75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3" dur="75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8" dur="75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3" dur="75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8" dur="75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3" dur="75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8" dur="75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3" dur="75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8" dur="75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3" dur="75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8" dur="75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3" dur="75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8" dur="75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3" dur="75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8" dur="75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662040" cy="993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259680" y="2666880"/>
            <a:ext cx="826920" cy="893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572000" y="2590920"/>
            <a:ext cx="993600" cy="893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057400" y="2590920"/>
            <a:ext cx="595440" cy="893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276720" y="2743200"/>
            <a:ext cx="496800" cy="695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838080" y="4648320"/>
            <a:ext cx="430200" cy="761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2057400" y="4876920"/>
            <a:ext cx="826920" cy="396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3795840" y="4648320"/>
            <a:ext cx="699840" cy="628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5315040" y="4648320"/>
            <a:ext cx="628560" cy="628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7010280" y="4572000"/>
            <a:ext cx="762120" cy="728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7696080" y="2590920"/>
            <a:ext cx="762120" cy="893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>
            <a:off x="0" y="0"/>
            <a:ext cx="2743200" cy="1184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11430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说出下列常见鼠标指针形状的名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7960" y="3657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幼圆"/>
              </a:rPr>
              <a:t>标准选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96360" y="3657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幼圆"/>
              </a:rPr>
              <a:t>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44240" y="3657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幼圆"/>
              </a:rPr>
              <a:t>文字选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44440" y="3657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幼圆"/>
              </a:rPr>
              <a:t>后台操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230520" y="3657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幼圆"/>
              </a:rPr>
              <a:t>帮助选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4674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幼圆"/>
              </a:rPr>
              <a:t>链接选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幼圆"/>
              </a:rPr>
              <a:t>垂直调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54100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幼圆"/>
              </a:rPr>
              <a:t>水平调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幼圆"/>
              </a:rPr>
              <a:t>对角调整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幼圆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86600" y="5410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幼圆"/>
              </a:rPr>
              <a:t>移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05520" y="54100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幼圆"/>
              </a:rPr>
              <a:t>对角调整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幼圆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00400" cy="1380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4920" y="11430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说出鼠标的五种基本操作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143000" y="3276720"/>
            <a:ext cx="2128680" cy="287640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2258640" y="2077920"/>
            <a:ext cx="546480" cy="1198800"/>
            <a:chOff x="2258640" y="2077920"/>
            <a:chExt cx="546480" cy="1198800"/>
          </a:xfrm>
        </p:grpSpPr>
        <p:sp>
          <p:nvSpPr>
            <p:cNvPr id="70" name=""/>
            <p:cNvSpPr/>
            <p:nvPr/>
          </p:nvSpPr>
          <p:spPr>
            <a:xfrm>
              <a:off x="2514600" y="25909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58640" y="20779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双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895120" y="2362320"/>
            <a:ext cx="748440" cy="1066680"/>
            <a:chOff x="2895120" y="2362320"/>
            <a:chExt cx="748440" cy="1066680"/>
          </a:xfrm>
        </p:grpSpPr>
        <p:sp>
          <p:nvSpPr>
            <p:cNvPr id="73" name=""/>
            <p:cNvSpPr/>
            <p:nvPr/>
          </p:nvSpPr>
          <p:spPr>
            <a:xfrm flipH="1">
              <a:off x="2895120" y="2819520"/>
              <a:ext cx="3812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97080" y="23623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右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1496880" y="2438280"/>
            <a:ext cx="546480" cy="1067040"/>
            <a:chOff x="1496880" y="2438280"/>
            <a:chExt cx="546480" cy="1067040"/>
          </a:xfrm>
        </p:grpSpPr>
        <p:sp>
          <p:nvSpPr>
            <p:cNvPr id="76" name=""/>
            <p:cNvSpPr/>
            <p:nvPr/>
          </p:nvSpPr>
          <p:spPr>
            <a:xfrm>
              <a:off x="1752480" y="2895480"/>
              <a:ext cx="2286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96880" y="24382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单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06160" y="3505320"/>
            <a:ext cx="713160" cy="1066680"/>
            <a:chOff x="506160" y="3505320"/>
            <a:chExt cx="713160" cy="1066680"/>
          </a:xfrm>
        </p:grpSpPr>
        <p:sp>
          <p:nvSpPr>
            <p:cNvPr id="79" name=""/>
            <p:cNvSpPr/>
            <p:nvPr/>
          </p:nvSpPr>
          <p:spPr>
            <a:xfrm>
              <a:off x="762120" y="3962520"/>
              <a:ext cx="4572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6160" y="35053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指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3123720" y="3200400"/>
            <a:ext cx="1357920" cy="609480"/>
            <a:chOff x="3123720" y="3200400"/>
            <a:chExt cx="1357920" cy="609480"/>
          </a:xfrm>
        </p:grpSpPr>
        <p:sp>
          <p:nvSpPr>
            <p:cNvPr id="82" name=""/>
            <p:cNvSpPr/>
            <p:nvPr/>
          </p:nvSpPr>
          <p:spPr>
            <a:xfrm flipH="1">
              <a:off x="3123720" y="342900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935160" y="32004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拖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876920" y="3200400"/>
            <a:ext cx="379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幼圆"/>
              </a:rPr>
              <a:t>双击操作正中间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76920" y="3809880"/>
            <a:ext cx="379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幼圆"/>
              </a:rPr>
              <a:t>单击右击在两边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76920" y="4419720"/>
            <a:ext cx="39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幼圆"/>
              </a:rPr>
              <a:t>指向拖动最外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76920" y="2590920"/>
            <a:ext cx="351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幼圆"/>
              </a:rPr>
              <a:t>左手放在双眼前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00400" cy="13809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920" y="11430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一起朗诵窗口操作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32004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幼圆"/>
              </a:rPr>
              <a:t>指向窗口</a:t>
            </a:r>
            <a:r>
              <a:rPr b="1" lang="zh-CN" sz="3200" spc="-1" strike="noStrike">
                <a:solidFill>
                  <a:srgbClr val="00cc00"/>
                </a:solidFill>
                <a:latin typeface="Times New Roman"/>
                <a:ea typeface="幼圆"/>
              </a:rPr>
              <a:t>边与角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幼圆"/>
              </a:rPr>
              <a:t>，</a:t>
            </a:r>
            <a:r>
              <a:rPr b="1" lang="zh-CN" sz="3200" spc="-1" strike="noStrike">
                <a:solidFill>
                  <a:srgbClr val="00cc00"/>
                </a:solidFill>
                <a:latin typeface="Times New Roman"/>
                <a:ea typeface="幼圆"/>
              </a:rPr>
              <a:t>拖动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幼圆"/>
              </a:rPr>
              <a:t>鼠标变大小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38098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幼圆"/>
              </a:rPr>
              <a:t>单击</a:t>
            </a:r>
            <a:r>
              <a:rPr b="1" lang="zh-CN" sz="3200" spc="-1" strike="noStrike">
                <a:solidFill>
                  <a:srgbClr val="00cc00"/>
                </a:solidFill>
                <a:latin typeface="Times New Roman"/>
                <a:ea typeface="幼圆"/>
              </a:rPr>
              <a:t>最小最大化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幼圆"/>
              </a:rPr>
              <a:t>，窗口最小或最大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44197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幼圆"/>
              </a:rPr>
              <a:t>关闭窗口最简单，指向</a:t>
            </a:r>
            <a:r>
              <a:rPr b="1" lang="zh-CN" sz="3200" spc="-1" strike="noStrike">
                <a:solidFill>
                  <a:srgbClr val="00cc00"/>
                </a:solidFill>
                <a:latin typeface="Times New Roman"/>
                <a:ea typeface="幼圆"/>
              </a:rPr>
              <a:t>关闭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幼圆"/>
              </a:rPr>
              <a:t>轻轻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25909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幼圆"/>
              </a:rPr>
              <a:t>鼠标指向</a:t>
            </a:r>
            <a:r>
              <a:rPr b="1" lang="zh-CN" sz="3200" spc="-1" strike="noStrike">
                <a:solidFill>
                  <a:srgbClr val="00cc00"/>
                </a:solidFill>
                <a:latin typeface="Times New Roman"/>
                <a:ea typeface="幼圆"/>
              </a:rPr>
              <a:t>标题栏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幼圆"/>
              </a:rPr>
              <a:t>，</a:t>
            </a:r>
            <a:r>
              <a:rPr b="1" lang="zh-CN" sz="3200" spc="-1" strike="noStrike">
                <a:solidFill>
                  <a:srgbClr val="00cc00"/>
                </a:solidFill>
                <a:latin typeface="Times New Roman"/>
                <a:ea typeface="幼圆"/>
              </a:rPr>
              <a:t>拖动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幼圆"/>
              </a:rPr>
              <a:t>窗口转一转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幼圆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" cy="1006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90720" y="990720"/>
            <a:ext cx="727704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133720" y="15228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怎样启动画图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010280" cy="5259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62120" y="5562720"/>
            <a:ext cx="990360" cy="6094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371600" y="2895120"/>
            <a:ext cx="609480" cy="2590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2362320"/>
            <a:ext cx="2209680" cy="5331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38280" y="2590920"/>
            <a:ext cx="1295640" cy="304560"/>
          </a:xfrm>
          <a:prstGeom prst="line">
            <a:avLst/>
          </a:prstGeom>
          <a:ln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2743200"/>
            <a:ext cx="2133720" cy="5335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971800"/>
            <a:ext cx="685800" cy="685800"/>
          </a:xfrm>
          <a:prstGeom prst="line">
            <a:avLst/>
          </a:prstGeom>
          <a:ln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57800" y="3733920"/>
            <a:ext cx="1752480" cy="3045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1095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362320" y="60958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开始</a:t>
            </a:r>
            <a:r>
              <a:rPr b="1" lang="zh-CN" sz="2800" spc="-1" strike="noStrike">
                <a:solidFill>
                  <a:srgbClr val="ff3300"/>
                </a:solidFill>
                <a:latin typeface="Wingdings"/>
                <a:ea typeface="Wingdings"/>
              </a:rPr>
              <a:t>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程序</a:t>
            </a:r>
            <a:r>
              <a:rPr b="1" lang="zh-CN" sz="2800" spc="-1" strike="noStrike">
                <a:solidFill>
                  <a:srgbClr val="ff3300"/>
                </a:solidFill>
                <a:latin typeface="Wingdings"/>
                <a:ea typeface="Wingdings"/>
              </a:rPr>
              <a:t>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附件</a:t>
            </a:r>
            <a:r>
              <a:rPr b="1" lang="zh-CN" sz="2800" spc="-1" strike="noStrike">
                <a:solidFill>
                  <a:srgbClr val="ff3300"/>
                </a:solidFill>
                <a:latin typeface="Wingdings"/>
                <a:ea typeface="Wingdings"/>
              </a:rPr>
              <a:t></a:t>
            </a:r>
            <a:r>
              <a:rPr b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画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400800" cy="5095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133720" y="30492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“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画图”窗口的组成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029200" y="838080"/>
            <a:ext cx="3886200" cy="459720"/>
            <a:chOff x="5029200" y="838080"/>
            <a:chExt cx="3886200" cy="459720"/>
          </a:xfrm>
        </p:grpSpPr>
        <p:sp>
          <p:nvSpPr>
            <p:cNvPr id="110" name=""/>
            <p:cNvSpPr/>
            <p:nvPr/>
          </p:nvSpPr>
          <p:spPr>
            <a:xfrm>
              <a:off x="5029200" y="1066680"/>
              <a:ext cx="27432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696080" y="8380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标题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029200" y="1295280"/>
            <a:ext cx="3886200" cy="536040"/>
            <a:chOff x="5029200" y="1295280"/>
            <a:chExt cx="3886200" cy="536040"/>
          </a:xfrm>
        </p:grpSpPr>
        <p:sp>
          <p:nvSpPr>
            <p:cNvPr id="113" name=""/>
            <p:cNvSpPr/>
            <p:nvPr/>
          </p:nvSpPr>
          <p:spPr>
            <a:xfrm>
              <a:off x="5029200" y="1295280"/>
              <a:ext cx="2743200" cy="304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96080" y="13716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菜单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219320" y="1371600"/>
            <a:ext cx="761760" cy="23623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-133920" y="1600200"/>
            <a:ext cx="1353240" cy="1676520"/>
            <a:chOff x="-133920" y="1600200"/>
            <a:chExt cx="1353240" cy="1676520"/>
          </a:xfrm>
        </p:grpSpPr>
        <p:sp>
          <p:nvSpPr>
            <p:cNvPr id="117" name=""/>
            <p:cNvSpPr/>
            <p:nvPr/>
          </p:nvSpPr>
          <p:spPr>
            <a:xfrm>
              <a:off x="-133920" y="1600200"/>
              <a:ext cx="9118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绘图工具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9480" y="2362320"/>
              <a:ext cx="609840" cy="0"/>
            </a:xfrm>
            <a:prstGeom prst="line">
              <a:avLst/>
            </a:prstGeom>
            <a:ln w="93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219320" y="3733920"/>
            <a:ext cx="685800" cy="914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33920" y="3429000"/>
            <a:ext cx="1657800" cy="1447920"/>
            <a:chOff x="-133920" y="3429000"/>
            <a:chExt cx="1657800" cy="1447920"/>
          </a:xfrm>
        </p:grpSpPr>
        <p:sp>
          <p:nvSpPr>
            <p:cNvPr id="121" name=""/>
            <p:cNvSpPr/>
            <p:nvPr/>
          </p:nvSpPr>
          <p:spPr>
            <a:xfrm>
              <a:off x="-133920" y="3429000"/>
              <a:ext cx="91188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子功能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4114800"/>
              <a:ext cx="9144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219320" y="5105520"/>
            <a:ext cx="3200400" cy="609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-133920" y="4952880"/>
            <a:ext cx="1657800" cy="1219320"/>
            <a:chOff x="-133920" y="4952880"/>
            <a:chExt cx="1657800" cy="1219320"/>
          </a:xfrm>
        </p:grpSpPr>
        <p:sp>
          <p:nvSpPr>
            <p:cNvPr id="125" name=""/>
            <p:cNvSpPr/>
            <p:nvPr/>
          </p:nvSpPr>
          <p:spPr>
            <a:xfrm>
              <a:off x="-133920" y="4952880"/>
              <a:ext cx="91188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颜料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9480" y="5410080"/>
              <a:ext cx="9144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952880" y="3123720"/>
            <a:ext cx="3962520" cy="1069920"/>
            <a:chOff x="4952880" y="3123720"/>
            <a:chExt cx="3962520" cy="1069920"/>
          </a:xfrm>
        </p:grpSpPr>
        <p:sp>
          <p:nvSpPr>
            <p:cNvPr id="128" name=""/>
            <p:cNvSpPr/>
            <p:nvPr/>
          </p:nvSpPr>
          <p:spPr>
            <a:xfrm flipH="1" flipV="1">
              <a:off x="4952880" y="3123720"/>
              <a:ext cx="2895840" cy="8384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696080" y="3733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画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029200" y="5638680"/>
            <a:ext cx="3886200" cy="459720"/>
            <a:chOff x="5029200" y="5638680"/>
            <a:chExt cx="3886200" cy="459720"/>
          </a:xfrm>
        </p:grpSpPr>
        <p:sp>
          <p:nvSpPr>
            <p:cNvPr id="131" name=""/>
            <p:cNvSpPr/>
            <p:nvPr/>
          </p:nvSpPr>
          <p:spPr>
            <a:xfrm>
              <a:off x="5029200" y="5867280"/>
              <a:ext cx="27432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96080" y="56386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态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362320" y="304920"/>
            <a:ext cx="601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你能认出这些工具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1276200" cy="48006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133720" y="13716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1295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幼圆"/>
              </a:rPr>
              <a:t>任意裁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2880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幼圆"/>
              </a:rPr>
              <a:t>橡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2880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幼圆"/>
              </a:rPr>
              <a:t>取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幼圆"/>
              </a:rPr>
              <a:t>铅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幼圆"/>
              </a:rPr>
              <a:t>喷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幼圆"/>
              </a:rPr>
              <a:t>直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4876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幼圆"/>
              </a:rPr>
              <a:t>矩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28800" y="5486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幼圆"/>
              </a:rPr>
              <a:t>椭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86400" y="13716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81480" y="1295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幼圆"/>
              </a:rPr>
              <a:t>选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幼圆"/>
              </a:rPr>
              <a:t>颜色填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814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幼圆"/>
              </a:rPr>
              <a:t>放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幼圆"/>
              </a:rPr>
              <a:t>刷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814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幼圆"/>
              </a:rPr>
              <a:t>文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幼圆"/>
              </a:rPr>
              <a:t>曲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81480" y="4876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幼圆"/>
              </a:rPr>
              <a:t>多边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81480" y="5486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幼圆"/>
              </a:rPr>
              <a:t>圆角矩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6232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75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75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75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75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75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75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75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75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0" dur="75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" dur="75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0" dur="75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5" dur="75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75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75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75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75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" cy="10065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133720" y="30492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用铅笔工具画图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976560" y="2833560"/>
            <a:ext cx="1190880" cy="1190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125360" y="1203480"/>
            <a:ext cx="718056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02:41:55Z</dcterms:created>
  <dc:creator>gfp</dc:creator>
  <dc:description/>
  <dc:language>en-US</dc:language>
  <cp:lastModifiedBy>Z</cp:lastModifiedBy>
  <dcterms:modified xsi:type="dcterms:W3CDTF">2008-10-20T05:43:55Z</dcterms:modified>
  <cp:revision>30</cp:revision>
  <dc:subject/>
  <dc:title>PowerPoint 演示文稿</dc:title>
</cp:coreProperties>
</file>